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BFD-008F-45BD-8565-C3109091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B47-10E0-4C0A-900A-ECAC6FC7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CDF-6A59-4C08-A1AF-4A12AD46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767-5A55-457A-9B7D-F4F913B3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7B2-BD58-45F5-A9AC-4BAC165D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956-E706-4819-AB7D-3E96CC99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0B3-C21C-4B4C-BC4C-BB9821B9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4E2-6814-4A43-8663-5884FC78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117-53F3-4084-A774-B89504CB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DED-F2C7-49CB-985E-EDC97B24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5AF-0438-4234-995E-C2D12EAE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27E-0CDD-4BA8-9D3E-C9E1B050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16EF-8F45-485F-88BF-136BF4179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e.es/" TargetMode="External"/><Relationship Id="rId2" Type="http://schemas.openxmlformats.org/officeDocument/2006/relationships/hyperlink" Target="http://www.madrid.org/iestadis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amaramadrid.es/" TargetMode="External"/><Relationship Id="rId2" Type="http://schemas.openxmlformats.org/officeDocument/2006/relationships/hyperlink" Target="http://www.paginasamarillas.es/" TargetMode="External"/><Relationship Id="rId3" Type="http://schemas.openxmlformats.org/officeDocument/2006/relationships/hyperlink" Target="http://es.qdq.com/" TargetMode="External"/><Relationship Id="rId4" Type="http://schemas.openxmlformats.org/officeDocument/2006/relationships/hyperlink" Target="http://es.qdq.com/" TargetMode="External"/><Relationship Id="rId5" Type="http://schemas.openxmlformats.org/officeDocument/2006/relationships/hyperlink" Target="http://es.qdq.com/" TargetMode="External"/><Relationship Id="rId6" Type="http://schemas.openxmlformats.org/officeDocument/2006/relationships/hyperlink" Target="http://es.qdq.com/" TargetMode="External"/><Relationship Id="rId7" Type="http://schemas.openxmlformats.org/officeDocument/2006/relationships/hyperlink" Target="http://es.qdq.com/" TargetMode="External"/><Relationship Id="rId8" Type="http://schemas.openxmlformats.org/officeDocument/2006/relationships/hyperlink" Target="http://www.emprendedores.es/" TargetMode="External"/><Relationship Id="rId9" Type="http://schemas.openxmlformats.org/officeDocument/2006/relationships/hyperlink" Target="http://www.consumer.es/" TargetMode="External"/><Relationship Id="rId10" Type="http://schemas.openxmlformats.org/officeDocument/2006/relationships/hyperlink" Target="http://www.bbva.com/TLBB/tlbb/jsp/esp/conozca/expbbva/index.jsp" TargetMode="External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nfac.com/" TargetMode="External"/><Relationship Id="rId2" Type="http://schemas.openxmlformats.org/officeDocument/2006/relationships/hyperlink" Target="http://www.asetramadrid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UDIO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ÉTODOS Y TÉCNICAS DE INVESTIGACIÓN DE MERCA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5202360"/>
        </p:xfrm>
        <a:graphic>
          <a:graphicData uri="http://schemas.openxmlformats.org/drawingml/2006/table">
            <a:tbl>
              <a:tblPr/>
              <a:tblGrid>
                <a:gridCol w="4114800"/>
                <a:gridCol w="1944720"/>
                <a:gridCol w="21700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CN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NTIT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étodos Estadísticos, buscan principalmente datos de cantida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O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(WE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 (Paneles, Estudios Ómnibus, Test de Productos o Pruebas, Audiencias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IT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étodos psicoanalíticos, buscan principalmente opiniones e idea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BSERVACIÓN PARTICIP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ENTREVISTA EN PROFUND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RUPO DE DISCU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TROS (Test Proyectivos, Asociación Libre, et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EÑO DE LA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- DETERMINACIÓN DE 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.- RECOGIDA DE INFORMACIÓN (Metodologí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.1.- DETERMINACIÓN DE LA FUENTES DE INFORM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PRIM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SECUND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.2.- DETERMINACIÓN DE MÉTODOS Y TÉCNICAS DE 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UANTITATIVOS (Encuestas, Panel, Ómnib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CUALITATIVOS (Observación, Entrevista, Grup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.3.- TRABAJO DE CA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.- ANÁLISIS E INTERPRETACIÓN DE LA 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.- REDACCIÓN DE INFORME 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38080" y="1905120"/>
          <a:ext cx="8007480" cy="4294080"/>
        </p:xfrm>
        <a:graphic>
          <a:graphicData uri="http://schemas.openxmlformats.org/drawingml/2006/table">
            <a:tbl>
              <a:tblPr/>
              <a:tblGrid>
                <a:gridCol w="2813040"/>
                <a:gridCol w="5194440"/>
              </a:tblGrid>
              <a:tr h="22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ENTOR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 DEMOGRÁF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 POLÍTICO-LEG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 ECONÓM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 SOCIO-CUL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 TECNOLÓGICO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ENTOR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MPET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S SUSTITU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ERAS DE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68360" y="981000"/>
          <a:ext cx="8229600" cy="5580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GRÁFIC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bl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ctura de la Población por Sexo, Edad, Nivel Estudios, Estado Civil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evos Asentami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ÍTICOS - LEGAL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ncias Polí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ción Polí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os (privatizaciones, regulaciones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sos, Autoriz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ÓMIC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ción Económica Act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siones a Corto y medi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empleo y des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de Ren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ción tipos de inter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O-CULTURAL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ncias o Modas socio-culturales (ecología, cuidado imagen personal, nuevas tecnologí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Cult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ES TECNOLÓGIC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ción A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ción Tecnológ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25360"/>
          <a:ext cx="8229600" cy="5639040"/>
        </p:xfrm>
        <a:graphic>
          <a:graphicData uri="http://schemas.openxmlformats.org/drawingml/2006/table">
            <a:tbl>
              <a:tblPr/>
              <a:tblGrid>
                <a:gridCol w="2602080"/>
                <a:gridCol w="3313080"/>
                <a:gridCol w="2314440"/>
              </a:tblGrid>
              <a:tr h="20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de R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Educa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ábitos de comp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Emp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Emp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m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dent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amaño de la Emp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aracterísticas de su Servicio (Ventajas competitiv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Nivel de Prec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ndiciones de Pa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as de Distrib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municació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dent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b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ama de Produ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lazos de Entr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ndiciones de Pa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a de Distrib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ervicio de Postv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alidad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ENTES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92280" y="2117880"/>
          <a:ext cx="6807240" cy="4103640"/>
        </p:xfrm>
        <a:graphic>
          <a:graphicData uri="http://schemas.openxmlformats.org/drawingml/2006/table">
            <a:tbl>
              <a:tblPr/>
              <a:tblGrid>
                <a:gridCol w="2332080"/>
                <a:gridCol w="4475160"/>
              </a:tblGrid>
              <a:tr h="14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quellos documentos, informes, estudios que </a:t>
                      </a:r>
                      <a:r>
                        <a:rPr b="1" i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duce o elabora  la empres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ra un estudio de mercado concr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: Encuestas, Análisis de Clientes, Grupos de Discusión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NDAR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s, estadísticas, estudios, listados, bases de datos, que son realizados por una </a:t>
                      </a:r>
                      <a:r>
                        <a:rPr b="1" i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tidad ajen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la empresa y que está puede utilizar para realizar sus investigaciones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: Estadísticas del INE, Informes de Bancos y Cajas de Ahorro, Padrones Municipales, Estudios de Audiencias, Datos Cámaras de Comercio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NTES DE INFORMACIÓN SECUNADARIA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GANISMOS PÚBLI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ituto Nacional de Estadística (INE): </a:t>
            </a:r>
            <a:r>
              <a:rPr b="0" lang="es-ES" sz="20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ine.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nco de España: http://www.bde.es/webbde/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rvicio Público de Empleo Estatal (Inem): https://www.redtrabaja.es/es/redtrabaja/portal/index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ituto de Estadísticas de la Comunidad de Madrid: </a:t>
            </a:r>
            <a:r>
              <a:rPr b="0" lang="es-ES" sz="20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madrid.org/iestadi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NTES DE INFORMACIÓN SECUNADARIA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IV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ámara de Comercio de Madri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camaramadrid.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elsen: http://es.nielsen.com/site/index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áginas Amarillas: 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paginasamarillas.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DQ: 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ttp://es.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qdq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7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prendedores: 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8"/>
              </a:rPr>
              <a:t>http://www.emprendedores.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umer: 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9"/>
              </a:rPr>
              <a:t>http://www.consumer.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BVA: 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  <a:hlinkClick r:id="rId10"/>
              </a:rPr>
              <a:t>http://www.bbva.com/TLBB/tlbb/jsp/esp/conozca/expbbva/index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aixa: http://www.lacaixa.comunicacions.com/se/index.php?idioma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nsa Económica: Expansión: http://www.expansion.com/economi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co Días: http://www.cincodia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ENTES INFORMACIÓN:AUTOMO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FAC (Asociación Nacional de Fabricantes de Automóviles y Camiones)  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anfac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ETRA (Asociación de Talleres de Madrid)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asetramadrid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guaces: http://www.desguace.biz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tas del sector: http://www.marcamotor.com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utocity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1:51:38Z</dcterms:created>
  <dc:creator>Benjamin Rua</dc:creator>
  <dc:description/>
  <dc:language>en-US</dc:language>
  <cp:lastModifiedBy>Maribel</cp:lastModifiedBy>
  <dcterms:modified xsi:type="dcterms:W3CDTF">2010-11-16T10:12:54Z</dcterms:modified>
  <cp:revision>14</cp:revision>
  <dc:subject/>
  <dc:title>ESTUDIO DE MERCADO</dc:title>
</cp:coreProperties>
</file>